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gif" ContentType="image/gif"/>
  <Override PartName="/ppt/media/image10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3.png" ContentType="image/pn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34.gif" ContentType="image/gif"/>
  <Override PartName="/ppt/media/image36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7EF3-2B53-41CD-B4BD-AFA762D6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31B-8999-4067-9918-88EA0865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16D7-C020-479C-A9A8-66FE49A6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B7B7-3F01-43D9-8A5A-493E982B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D466-CDA9-4537-BFFD-EAA91BE4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949-05D4-46AB-99D1-3A698657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097-67E4-48BF-92EA-A3B19AC2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B71-5F14-46C7-BB7F-C30D9301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2F7C-F1F7-4E8C-934F-E8EE4EA9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B54-C77F-4C40-AC89-C5058E20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E1D-3CAF-4E0C-B7C9-F63239DF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206-E13C-47FC-B602-C61B5CA2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1F71-B1DB-4FD8-A7C9-17FF3B3095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flash970330854.sw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file:///&#38634;&#32466;&#33457;.mp3" TargetMode="External"/><Relationship Id="rId3" Type="http://schemas.openxmlformats.org/officeDocument/2006/relationships/image" Target="../media/image21.gi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file:///&#38634;&#32466;&#33457;.mp3" TargetMode="External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flash970330854.swf" TargetMode="External"/><Relationship Id="rId2" Type="http://schemas.openxmlformats.org/officeDocument/2006/relationships/image" Target="../media/image41.jpeg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38080" y="2133720"/>
            <a:ext cx="69343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拥抱自信放飞生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3520" y="762120"/>
            <a:ext cx="19810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cc00"/>
                </a:solidFill>
                <a:latin typeface="宋体"/>
              </a:rPr>
              <a:t>班会主题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99cc00"/>
              </a:solidFill>
              <a:latin typeface="宋体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52578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初一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班主题班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5867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持人：金艳、陈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1067040" cy="1127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654120"/>
            <a:ext cx="86868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故事一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老农拉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一位老农讲述了自己这样一个真实故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那天，我拖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沉甸甸的板车疲惫的来到了山脚下。望着前面那一段长长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坡路，我不禁畏而却步。心想，今天靠自己一个人绝对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上去了，肯定得有人帮一把才行！正在为难之际，正巧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了一个热心的过路人。他看出了我的窘境，对我说：“没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系，我来帮你”。说着，便利落地卷起袖子，拉开了一副推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架势。于是，我就咬牙使劲地拉车。在热心人“加油，加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鼓励声中，我们终于将车拉到了坡顶。当我感谢热心人鼎力相助时，没想到他却说：“你用不着感谢我。这两天我的腰扭伤了，根本就不能用劲，我只是喊喊加油而已。能将这趟车拉上去，全靠你自己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朗诵者：潘东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772400" y="3048120"/>
            <a:ext cx="990720" cy="1143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28800" y="76320"/>
            <a:ext cx="70866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故事二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主人公是个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岁的小女孩家住贫困的山区。那里山高路远，交通落后，没有学校，后建成了一所希望小学。在学校落成那天，记者前往采访，碰到了向教室外窥望的她，她对记者随身携带的相机很感兴趣，当记者要告诉她是什么东西时，她非常自信地说：“不用告诉我，我读了书自然会知道。”面对学识渊博、满腹经纶的记者，还挑战说：“你也有不知道的东西。我爸爸叫什么？你不知道，可我知道；我妈妈叫什么？你不知道，可我知道。”这一连珠炮式的问话震慑了见惯大场面的记者，也使在场的每一个人都为她的自信所折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840" y="914400"/>
            <a:ext cx="911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朗诵者：施丹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72400" y="304812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90720" y="91440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欣赏小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《失败之后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                 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表演者：沈超杰、袁夏磊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rId2"/>
          </p:cNvPr>
          <p:cNvSpPr/>
          <p:nvPr/>
        </p:nvSpPr>
        <p:spPr>
          <a:xfrm>
            <a:off x="1143000" y="2638440"/>
            <a:ext cx="434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    </a:t>
            </a:r>
            <a:r>
              <a:rPr b="0" lang="zh-CN" sz="4400" spc="-1" strike="noStrike">
                <a:solidFill>
                  <a:srgbClr val="0066cc"/>
                </a:solidFill>
                <a:latin typeface="Times New Roman"/>
                <a:ea typeface="华文行楷"/>
              </a:rPr>
              <a:t>请打开心灵的窗户，放飞想象，让大自然的颜色愉悦我们的眼睛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04920" y="762120"/>
            <a:ext cx="914400" cy="1050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219320" y="53352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配乐诗朗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"/>
          <p:cNvSpPr txBox="1"/>
          <p:nvPr/>
        </p:nvSpPr>
        <p:spPr>
          <a:xfrm rot="5400000">
            <a:off x="-1981440" y="3352680"/>
            <a:ext cx="50292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－就是一道亮丽的风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1447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朗诵者：王飞霞、邓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1600200"/>
            <a:ext cx="601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自信是人类运用和驾驭宇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无穷大智的唯一管道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是 所有奇迹的根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是所有科学法则无法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奇妙神迹 的发源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279320" y="26668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拥有自信，就拥有成功的一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468160" y="205740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愈是自信、愈会成功，一个人的失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其实是自信的丧失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5486400"/>
            <a:ext cx="85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勇敢的人说我能行，懦弱的人说我不行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9480" y="4038480"/>
            <a:ext cx="85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分析一下卓越人物的人格品质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就会看到他们有一个共同 特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在开始做事前，总是充分相信自己的能力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扫除一 切险阻，直到胜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654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卷调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认为自己漂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英俊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能成为班级中出色的一员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认为是班中不可缺少的一员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是否总是担心做不好某一件事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是否能实现你心中的理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8229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305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信并不是平白无故地就会附在一个人的身上，首先要有 真才实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</p:transition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324480" y="0"/>
            <a:ext cx="1981440" cy="1752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8600" y="457200"/>
            <a:ext cx="57736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有一个人，他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1600200"/>
            <a:ext cx="62485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二十一岁时，做生意失败。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二十二岁时，角逐州议员落选。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二十四岁时，做生意再度失政。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二十六岁时，爱侣去世。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二十七岁时，一度精神崩溃。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三十四岁时，角逐联邦众议员落选。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三十六岁恃，角逐联邦众议员再度落选。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四十五岁时，角逐联邦参议员落选。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四十七岁时，提名副总统落选。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四十九岁时，角逐联邦参议员再度落选。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五十二岁时，当选美国第十六任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04920"/>
            <a:ext cx="20574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林 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784200" y="457200"/>
            <a:ext cx="1826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“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观音”之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9080" y="1676520"/>
            <a:ext cx="1003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生命之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05720" y="304920"/>
            <a:ext cx="2286000" cy="2819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1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15200" y="49528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3962520" cy="6400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4952880" y="1447920"/>
            <a:ext cx="358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800000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华文新魏"/>
                <a:ea typeface="华文新魏"/>
              </a:rPr>
              <a:t>每次起舞的时候，我的内心都特别沉静，一种巨大的沉静，没有任何杂念，自己也自然地闭上了嘴去微笑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华文新魏"/>
                <a:ea typeface="华文新魏"/>
              </a:rPr>
              <a:t>             ——</a:t>
            </a:r>
            <a:r>
              <a:rPr b="1" lang="zh-CN" sz="3200" spc="-1" strike="noStrike">
                <a:solidFill>
                  <a:srgbClr val="800000"/>
                </a:solidFill>
                <a:latin typeface="华文新魏"/>
                <a:ea typeface="华文新魏"/>
              </a:rPr>
              <a:t>邰丽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57600" y="220968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       </a:t>
            </a:r>
            <a:r>
              <a:rPr b="0" lang="zh-CN" sz="5400" spc="-1" strike="noStrike">
                <a:solidFill>
                  <a:srgbClr val="993300"/>
                </a:solidFill>
                <a:latin typeface="Times New Roman"/>
                <a:ea typeface="华文行楷"/>
              </a:rPr>
              <a:t>用一颗感恩的心去对待生活，用一种自信的姿态去诠释生命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057400" y="304920"/>
            <a:ext cx="54936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236232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是雄鹰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就该展翅高飞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接受别人的批评，只是接受那些善意的和那些对自己信任和爱护的人的批评。若是有人伤害我们的自尊心，即以己之见贬低我们，我们应该愤然而起，我们的心理应自发地护卫着自己，护卫着人最宝贵的品格——自信心，假若有人丧失了自信心，那你就将会堕落，追求真善美的意志就会衰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343400" y="53352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老师的话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 advTm="16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457200" y="-1447920"/>
            <a:ext cx="11125080" cy="111254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请同学们用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我会、、、                                                                我能、、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我行、、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                       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造一个句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456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自信的回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认为自己漂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英俊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能成为班级中出色的一员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认为是班中不可缺少的一员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是否总是担心做不好某一件事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是否能实现你心中的理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51200" cy="320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6680" y="3886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次出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205440" cy="3733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29000" y="5181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次得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173640" y="2666880"/>
            <a:ext cx="2894040" cy="4191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771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次灌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3049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姚明征战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N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448920" cy="7391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724280" y="304920"/>
            <a:ext cx="4800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Times New Roman"/>
              </a:rPr>
              <a:t>相信自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Times New Roman"/>
              </a:rPr>
              <a:t>鼓起勇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Times New Roman"/>
              </a:rPr>
              <a:t>超越自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Times New Roman"/>
              </a:rPr>
              <a:t>你就是第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2004480" y="57913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主题曲：《相信自己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5508720" y="135900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0948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谢谢！再见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6876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仇国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819520" y="1447920"/>
            <a:ext cx="336060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00400" y="5105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仇步行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191280" y="0"/>
            <a:ext cx="2952720" cy="365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6294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挑翻湖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3200400" cy="3062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553080" y="350532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话大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200400" y="228600"/>
            <a:ext cx="2978280" cy="3581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76720" y="3886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挑战乔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303960" y="0"/>
            <a:ext cx="284004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038480" y="4343400"/>
            <a:ext cx="3657600" cy="2463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4267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会巴特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5715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力压邓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4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066680"/>
            <a:ext cx="7467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我喜欢姚明从不放弃的精神。在他受到阻挡时，姚明会作出第二次甚至第三次努力去争抢篮板。事情有时候并不能如他的愿，但他一直在做能帮助球队的事情。”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火箭主教练汤姆贾诺维奇在本队与华盛顿奇才队的比赛后说。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7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62120" y="380880"/>
            <a:ext cx="3352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球队对姚明的评价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" name=""/>
          <p:cNvSpPr/>
          <p:nvPr/>
        </p:nvSpPr>
        <p:spPr>
          <a:xfrm>
            <a:off x="144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809880"/>
            <a:ext cx="74678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突然一下子，关于姚明的消息铺天盖地。当我看到姚明面对摄像机无比自如和充满自信；不会说几句英语却魅力四射时，我有点惊讶了。”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-- 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体育市场专家多夫曼这样评价姚明。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109440" y="0"/>
            <a:ext cx="4843440" cy="6781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757760" y="0"/>
            <a:ext cx="4386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581280" y="0"/>
            <a:ext cx="51818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吕燕小档案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。身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7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。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正式进入时尚圈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，应邀前往巴黎发展模特事业。同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代表中国参加世界超级模特大赛并获亚军（为中国选手在世界超级模特大赛中取得的最好成绩）。先后签约巴黎、纽约、米兰、日本多家国际模特经纪公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俗话说“相由心生”。即使面貌是天生的，但从内而外的自信也会让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95720" cy="4267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22040" y="4300560"/>
            <a:ext cx="5484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众人眼中的“丑女”变得光芒四射起来。若想从内而外地漂亮变身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吕燕身上这种自信的精神值得学习。而吕燕的自然之美也让人看到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有人造的美都是无法永恒的，即使得体的打扮，也要掌握尺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多地堆砌会让扮靓得到适得其反的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24280" y="2379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吕燕的变身不在于外在面貌的改变，而在于她内在美的提升。她以实际行动再次验证了“自然即是美”这句话，总是以最自然的状态出现，并不极力掩盖自己的缺陷。比起那些整天为了自己单眼皮、塌鼻梁而变得不自信，嚷嚷着要去整容的女孩，吕燕有更多的理由可以去推翻固有的五官特征，但是她仍是以原本的面貌出现。然而，最重要的还是吕燕充满了自信，尤其是她身上透出的那种同龄女孩子少有的坚定与坚韧的气质，让她成为了国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台上具有东方味的超级名模。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4572000" cy="6183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2:26:00Z</dcterms:created>
  <dc:creator>All OK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51:53Z</dcterms:modified>
  <cp:revision>45</cp:revision>
  <dc:subject>主题班会课件(分28大类): http://shop62905894.taobao.com</dc:subject>
  <dc:title>主题班会课件(分28大类): http://shop62905894.taobao.com</dc:title>
</cp:coreProperties>
</file>